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144-9305-434F-8A88-6248CCDF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348-F225-4A11-9D14-BD7B72BA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8A7-B593-45E7-B16C-AC923DFA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F8E-DC59-49D6-AF33-E681DE96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1644-17B1-49F8-88B8-5B2FD85C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3CF1-1BF4-4EED-B29E-45B73CF4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FE7A-44B6-4C78-A1DD-52C4CB6D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A0D0-1A65-422D-87EE-7A99BF2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E11C-DD7C-4A45-8208-24B58393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8A9C-E4CE-4255-8165-B234D458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F988-2527-4C7C-A7A8-CC2E5C4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412-1793-4607-B2FC-251ED21A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0F6C-1B42-47EC-9C01-7A3FFF71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5CF6-2587-4342-AFD0-35616703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53FE-022A-4664-BC82-ACA8862C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34E1-F052-400D-ACB2-28FB29B2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9D76-10AB-4925-9A20-D8138A8D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E7C-CF0E-4703-95B5-BB9CF569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57C-B635-42CA-96BE-485C2E38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C9B-C254-4EA1-BF51-2E1C3878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6D9-975A-41CB-8EF8-D8424622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AC9-86B4-4EBA-949B-396C67D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8AB-74FE-4A64-99B0-99217C2A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F00-E5F4-43FE-9B13-914821DF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9740-E78D-4990-B075-61722BC617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43EC-7CDB-4C41-8C24-A825A19C8A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tutes of the Lord are right, rejoicing the he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mandment of the Lord is pure, enlightening the e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o be desired are they than gol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, than much fine gol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eter also than honey and the honey com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ear of the Lord is clean, enduring fore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judgments of the Lord are true, and righteous altoge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o be desired are they than gol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, than much fine gol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eter also than honey and the honey com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o be desired are they than gol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, than much fine gol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eter also than honey and the honey com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e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ve thanks to the Lord, our God and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He is good, He is above all th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a mighty hand and outstretched a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life that's been rebo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God is faith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God is stro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ever God is with 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ever, Forev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the rising to the setting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the grace of God we will carry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God is faith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God is stro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ever God is with 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ever, Forev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medi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You are faith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You are stro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Forever You are with 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Forever, For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ive thanks to the Lord of Lords… to Him al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o does great wonders; His love endures forever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s 136: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Call Upon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call upon the Lor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worthy to be prais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shall I be saved from my enem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know the Lord livet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lessed be the Roc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et the God of my salvation be exalted.  (2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Christ died for m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e took away my s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live with Him for eter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know the Lord livet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lessed be the Roc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et the God of my salvation be exalted.  (2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us praise the Lord of Lor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him now and evermo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the Father, Son, and the Spir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know the Lord livet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lessed be the Roc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et the God of my salvation be exalted.  (4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will call upon the Lord (women ec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Need Your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I need your love in this shadowed plac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’t get enough of your sunlight on my 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t’s cold and dark, or I’m far from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in my heart, and I never walk al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just like a tree planted by a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sty for a drink of your lov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’t face a day, without some time to pra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ing this song to say I need your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a tiny child, but when I’m with y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not grow tired, ‘cause there’s nothing you can’t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love makes me strong though I’m small and we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 whole day long you’ll speak through me when I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just like a tree planted by a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sty for a drink of your lov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’t face a day, without some time to pra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ing this song to say I need your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gave all for me though I’d cursed your name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at bitter tree, Lord, you suffered for my sh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I thank you? Your love paid my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at I can do is live for you ever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just like a tree planted by a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sty for a drink of your lov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’t face a day, without some time to pra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ing this song to say I need your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alm 119:7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praise you with an upright hear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as I learn your righteous law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obey your decrees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do not utterly forsake 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a young man keep his way pure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By living according to your word.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eek you with all my heart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do not let me stray from your comman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hidden your word in my hear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that I might not sin against yo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be to you, O LORD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teach me your decre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 of the lord is perfect, converting the so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stimony of the Lord is sure, making wise the simp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o be desired are they than gol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, than much fine gol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eter also than honey and the honey comb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16:30:08Z</dcterms:created>
  <dc:creator>Peter Rivezzo</dc:creator>
  <dc:description/>
  <dc:language>en-US</dc:language>
  <cp:lastModifiedBy>Peter Rivezzo</cp:lastModifiedBy>
  <dcterms:modified xsi:type="dcterms:W3CDTF">2008-08-06T00:21:26Z</dcterms:modified>
  <cp:revision>6</cp:revision>
  <dc:subject/>
  <dc:title>Slide 1</dc:title>
</cp:coreProperties>
</file>